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58B-41F6-4672-9B68-161B27A6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1F7-3D33-4D54-BD05-BFBE7EAF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14E16-B0E2-4E80-8367-70F787C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53FA-28FF-4DF9-8A93-3C67D7B3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3AC41-445E-4A2F-A0D9-CE8402BD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9DFB4-7F64-42C8-BD18-C26CED2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70F2F-E6A7-43B1-99F6-10F2C89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90799-026F-4966-A5E3-ED643A2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BA64-F829-4CD9-A0B4-4AE9CEEB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7A73-8236-41B5-84D1-749F153A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D38D3-96A8-4112-A5C2-BF630B90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17106-10C2-4BDD-9B90-B3CB1C9D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E22-D02E-4AF5-8480-CF8588BA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C7EE2-70B7-49FA-A35B-1505533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798F-F7C4-4133-8F94-BFECEC2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FA6F-A9B1-4FAE-B6BC-2FD4282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F6190-4D64-4F50-8E70-D309109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F0210-6445-47E3-9387-C256F6D9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5A9A-D0C2-412E-BF1F-C6E5478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19FE8-C834-402C-8E53-740F7DEB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6941E-EEC8-458C-B2AE-4A931F9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95907-C09D-4F4D-B354-1D64251D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555EF-247A-4A18-A99E-13F065F5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D9A-3713-4E15-A50A-47B2E35B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2839D-74E3-4CE4-BFA3-9E7ED682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2B184-1C14-4238-A784-85F4F015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59603-BDC5-4FB3-9CAE-6C9CC26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6976C-7D9E-4F15-92FB-A0508468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42DB-3115-43ED-B434-A16A983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2DC77-9B00-44AA-8C6E-824C19A9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4627-9CE3-4E5D-A5C9-229A17EA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DFFF6-D47C-488B-ABF3-D62D95F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3F9E9-8D08-44EE-A549-9575038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97E6E-59D2-4EA6-B33B-E359C0A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AA09-B378-4D1E-B7A0-64BF92F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D3A83-738F-47C0-BF56-81C032C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7369B-9D61-484B-89A6-C6CB683F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61C0F-52EB-45DD-92FA-DAD08CC4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DB7BF-1D2D-4207-A927-A15BE28C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95A61-B375-4D17-BB34-7C8BB9B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248E0-2648-4499-9FEF-1E3794D5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BDD4A-93C9-4E26-A0D5-6EAE8E5D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F5CE8-BCBE-487C-85F8-366C48A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E8D95-B3C1-40FB-92F7-D7BC700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7525D-8160-4FDD-B353-DB613CB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B99D-996B-457B-B2BB-F2B4375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41D08-8DA4-412A-BB98-81F487E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EB2D4-B533-4692-9A70-99589E4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85338-982D-4437-ABDA-0AE5BFCB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0A3AD-FA3B-41EF-A781-5CD106CB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623ED-18C9-4F93-B872-04336205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6D5A0-6A2A-4443-9844-5D56A2CB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A7035-9FCC-426C-A7BD-E77D82D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37B9C-4B13-4C54-B69A-3776612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3DB4E-5CFD-4238-BCC3-2DC7B6B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399BD-A07F-4231-85C5-12AF7D4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B9DB-BB88-47C4-BE66-79480FE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E8031-E983-4AAA-B9ED-4F77B68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B23D7-7435-491F-AAF0-26A0ABA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5A1BF-46C2-4B9D-A986-6FCC159D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03CF0-8AAB-49DE-A865-71443DB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A684F-631D-4295-AE64-4B647A50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01C26-9E3D-44B9-B30F-4E6533E2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2C61E-BC43-48DC-8968-14FA1401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AAE52-8B92-4D37-B158-33EDC5CC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92102-4AE1-49FD-990A-CF41A25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58180-5173-43B5-A228-D9B7223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A2BB-C949-48DA-BAC8-DC722FB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5A725-F00A-4B66-8DA4-8BF037C6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B181B-D17C-4BC8-87BC-E3B0231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63CBA-BD81-41DA-B6EF-ABA5A8C1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5EA1B-C7E7-4371-9AB1-34D549C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CB5A0-90F2-4DD7-9B98-CE8143B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58CE0-5F5E-47B8-8365-5EA3A48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23251-0946-4DA3-8942-43A842D5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38BB7-5C90-409D-8293-A523626A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F430-67B1-4192-970B-354C50F7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F44C6-8162-4439-85AB-F6C7E1BA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E80-D6FD-4A25-A85B-C2A0006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CACC8-7C6F-4686-9D49-C1B241C1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F1429-5007-4D7B-9B0A-14062546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6B26C-91C4-44CF-ACD1-196C80C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724A4-9811-43B3-A2B7-A1E3F86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AA380-F2AA-42A7-A399-6EC87D9A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5B6BF-A95A-4223-99F5-C44B9C5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3FB38-3B02-439A-AC1B-6864699A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0C2C8-2D97-411A-B975-1995CA6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ECAA7-622E-45F7-9EFE-DD2C22D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D774B-7012-4B5A-A27D-E0AA6C2B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00EB-4592-4E7C-843A-A886B70A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F1DB0-4657-4922-9531-023F2300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E0798-0F14-4715-834A-6FB4DC2D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F91AD-E2A7-47A8-8092-E2D9B57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588C6-3144-46E5-B03D-7C9FA067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7CE3C-F2A1-4D6F-8A62-4EABC27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A6F74-18AF-4B0C-85EC-6FFC64A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F13A5-A00F-4BB8-8B3D-2AF86EC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6A3CA-F0F6-452B-8CF1-9038D94E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01DEE-9E1C-4C92-8D6E-EBA54DB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08B30-830A-406A-9C64-4987DE2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97D9-6FAA-4A93-8F42-341D68C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EA31C-4A30-445C-BE61-4032F45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575CF-6E3C-4B1E-AFB2-A2DC2E30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56293-B287-4DBD-9023-2247AC3E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3156C-2EE3-47F5-87F6-CC4D4821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798DC-1825-45FB-836E-19F77FBA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D0683-528F-46D3-A5B3-85507E4D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1D7ED-8129-4AD6-92DD-2C750E01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A165B-2A84-4767-9F13-A4B9F73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1C03B-DB2B-43ED-8FAB-24671FF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154DB-57A2-4795-9579-524E5F0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615-9746-4D4F-990E-0F6951F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615-63F4-47ED-958E-EB69B12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0FCCC-4FD1-445C-8908-41E2599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E98A93-473C-43A6-94DA-B5B6997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7E8A0-0921-4AFA-B4B9-7EC31218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6D4A23-7116-4C67-BCE3-7B8A2DC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1A85D-FC7E-46C9-AE32-9CBF1C4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22229-AE7D-4059-94B8-8F2F88FD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E1B25-8C9E-44AC-9939-08084B0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9E194-479D-4066-8E75-D0F6C25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F2A9E-350E-4229-8645-C340E3EB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863B2-18F6-4609-91AC-D4A284DC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EFBD-0996-4A2A-8230-7F389AE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641EE-7EDF-4046-BA80-9B1D8D9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7A243C-7F7A-4197-902E-D1F2155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E3E2B-9995-4F04-9F60-C12C7BE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F992B-C53D-42D0-BC54-8F7FFCE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5A9BC-91F1-4B5E-8287-C95300A7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5161C-3AB6-48F1-A3B8-34F340A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2B6B7-D4F6-4296-B15A-2D4C7EFC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91AE9-3EEF-4A68-9108-6D19AE04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D0E35-F570-405A-94E7-B93DFC5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C3A0C-F27C-41C3-9F19-E5BF90E4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956C-729E-4E02-B71D-FC8D181D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F6A2C-48EE-4274-9997-0BFE432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D38B5-0FA9-4952-96DC-6FADE405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6852A-8270-4D99-8791-E92096D9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3ED28-CA53-42B1-8D2F-DB50F6E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A650E-2E7A-4CDD-A592-F1C97690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2ACA9-8F99-4DBD-93BE-E33B77DE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3EEA1-5CED-4A25-91F5-42D848C1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E7F07-2A26-43D3-A9EF-B244D6A4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156D8-FDBB-43B3-9E1B-B494D9A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9E450-3EE8-4CCC-8B60-86715EC5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F1B-8115-49CA-8147-C43AC04F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116CA-C76E-418D-AD4D-336D8532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A3207-8F3B-4F82-850A-B26567D1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E6192-1F0B-42D8-BD81-934FE37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20897-8415-42BB-A445-9717F19F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581BF-A552-442A-AE01-54D2668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0D03C-A43A-440A-B887-9E7AE476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CF82B-0752-49FB-AEB8-B2E65E1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9D200-3F9A-4EB7-A745-4923441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45F7E-845E-4A0D-8EB2-2BB7385E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4DD93-72F7-4D9A-B867-EBFF1BA0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E5A-2437-41EC-88A3-DDAE75AF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2F638-EABB-4BF8-9254-8AD4B24D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CE831-8C18-4992-B58F-A7C4B571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229DCB-FA4E-41EE-AED6-39B1915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AD6A1-9877-40EF-B095-FD7A205D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772E2-16F9-419E-A92A-6E27846F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D3028-D050-41FD-8241-9365804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CDF4C-E336-4DC4-ABD8-17D64E6A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7F3A2-E16B-4C11-844B-A2B72AF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0F446-9664-4539-B686-DBDE761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FF625-B24D-4647-A52A-D67DC45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C64E-5404-4DBC-89C3-6095D29D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5E8A9-D319-4F59-A371-BEB5C71E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718D7-5EEB-4D2B-A65A-0D56BA2E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CC00D-9A7F-45C4-BE03-6FBC74F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CDCF-6448-4CD1-80E3-AAC242D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6FCF-B6EE-427B-85F3-41997F1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9C3E-3CA2-4A07-883F-8610B8B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909D-5F4A-47AE-84D2-5C68FCF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CE9-273C-4E26-B1A4-9C2981E0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F441-7442-4EC3-ABE9-742442D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709B-00D5-4AFE-87B8-FCDF2CD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D576-7065-4AEF-B391-3FE6C61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57D4-DAEA-462A-8327-3594534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682A-A80B-41E6-A2A4-394E799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D41A-96C6-4C90-8FCB-05DFE9B0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4236-F2ED-42AA-AB94-AC854131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8D6D-2A4F-4502-87BD-1707373D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6E10-A5BB-4C8F-BF48-5840791B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85DB-8D10-49F6-BCFE-69D76DB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989-C5D5-4316-ADEC-E85739F1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AD06-5E35-45E5-A9E9-A26B1755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29EE-D818-485D-A644-C1DFC108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85D1-D809-4783-A3EE-208089E9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BA59-3E58-4B41-AA3A-3848107F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38F3-46ED-4856-B663-D1F416A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CD84-F6EB-4BAC-B83C-88CBE5A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0723-0184-49F1-82C3-D3064E5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615B-4FFB-4637-B19A-ADDA0765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C046-9BB5-4E10-BC2E-C230AD0F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79A3-A669-43DA-A4A6-5C14C73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102-1D8E-4CE3-A2F6-52FC29EA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0F8E-02EB-43DA-A14D-42B11DB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0E8E-17C3-4210-9AA1-48C82E6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10A6-146A-4A69-983F-FFEF10DB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8245-FAFD-4B76-8E2C-7A9EBD58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7819-F662-4C36-A0D4-16696C5F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7749-78AA-4596-9C4E-6419EA0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8A305-61D3-4C69-B5C6-0946C776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C2AE-FD9C-4812-AA2D-2D453DD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8497-CA00-4C9D-B13D-25E8839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E2EA-091D-4204-8778-6BB9F967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927-A194-4985-8A26-F247324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D34E7-4E6F-485D-861B-1199D866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96CE-54DB-4A29-A406-254306EA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1999-5C89-4EA2-A706-A0FE2F7F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DA60-89BC-4718-8012-BBC8E4D3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1531-FB63-47D5-94DF-5AB217E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72F2-A13F-41C3-9957-A8DA37A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F5D98-FEE6-4C09-B3BB-76EC57F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AC89-0A36-44D3-982D-B3232990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C9C97-DB34-4F6E-B4CC-EDEA453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8D87-A0C6-4BC5-9548-06FA176F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6F9-87C7-4E35-8191-AB72EED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43E4-C1A7-4F4A-83D7-DB10EF2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CA7A-501E-4E8B-9DE3-1E45512B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3DC07-95FA-406B-9B00-BBA76DC5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D8DF2-566D-4BBC-A2FA-172C7ED0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DDFA-2D59-491B-8C80-016F3713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934F6-C995-4125-AC07-07ED7F9D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6069-9995-444A-A73B-3EAB5FD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A2C3-F466-4F4C-9AD5-135D992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ABC7-4301-41CB-BC74-28F7C5C9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604B-5AB8-4162-862A-CC30F1B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71D-50B2-497E-950C-2DEF5645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8B85-FC8E-4B25-98B5-DFAD401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032A-7F49-4395-86A2-DDC1EF9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C0E99-4FBF-455D-BA4F-36C7920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62D4-680B-4E17-967F-3450F09E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D2A8D-4346-46A1-B527-065A23A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198B-9A27-47C6-9D0A-AF060823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3AF5E-9CB6-4E62-8EDC-9B98AA8D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5F3DD-777E-489E-9298-9E535722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4C09-C0D8-4B53-8B75-6E7D8595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607E-04E2-4EB8-93DA-FCCE6A5A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B7A-60A2-4E74-A707-45744C5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F6D1-4E69-4E43-BB80-F21BA0A7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E90B3-FD49-4727-8551-67C63CB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F275-9E3F-4734-854C-7CBDC54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DEF7E-F814-475C-AEDA-BAAA560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48CD7-F117-4780-A569-AEC31513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98CD7-3B2F-41F3-8FD0-5EF0FA6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1564D-2B99-474F-A697-A4599443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F607A-AD78-4A5C-BF9D-C00560F1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D5DAA-6F6C-4887-959A-9915335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B4FC3-802B-4F83-8A1B-E8D4D02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B61C-260B-4796-988A-67512122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FF9-AD1A-41C4-A0C9-52B1F2068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1647-F310-4CB6-8441-F667FE7EA2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D44-573F-489E-9CDC-C33021D90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B6AB-88DB-4969-8D59-86AA93CF0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91B3-9E83-4078-9F75-EA36835785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A09B-4D6C-40E2-B91E-03A87DB0A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37B-4061-45F8-9C93-652FF6706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075-5779-41BF-81A9-FAF5950FF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D3B-F9B9-4DE2-AD08-06575EFFA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9EC-C3C2-43F1-8F7C-6DA8813F0A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5C7-47B2-431C-BDE0-B830CCD32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80E-303C-4E13-8BF2-F286F49442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8F2-864A-482C-BF1D-BA956A957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877E-73C3-4EAE-813D-84D16D744D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A7F-CC05-4664-B120-CCF161E04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652-E511-4AB2-901B-17B479BE7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8CA-9FAD-4157-8692-C8B1765133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7334-1589-41B4-9C0C-31736758E8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31E-5A7A-423D-BC0F-D4ACC93E8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05D-9A4B-4AF2-85DE-CFC1B6847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1E7-D67A-40F1-86C8-E517FA8F4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717-3D4F-4882-9892-AC00D7922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6B4-EE25-4F52-9DF1-C9E7D1F76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EA9C-4DBA-4F63-82EE-CE5806698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DCE5-69C1-4A64-9492-3C54CFC2D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F55-6467-4408-96B4-71C4CF62C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A8D6-8A99-4065-93C3-1152E9B8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428A-0DBC-426F-A531-AAFCE4916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361-ACDA-4BC1-B927-1EB62408A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208C-0864-4470-9003-3616EEDB6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1EF-B5D4-469E-AEBA-E060A97A7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B1D-9237-4FC8-8CD4-CED54D6B70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2209-69EB-4D34-BAA4-F57E86F88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0E2-24F4-4E71-B27C-A052E2CC6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290-6EDF-4944-A715-87FA13355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AC04-2F83-46AF-8557-4B3DC28CC3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3658-100C-4CF1-8604-1C5508D94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C439-EC28-4937-8D69-C534EB414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608-BC93-4560-9010-9E7E1F022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43160" y="3086280"/>
            <a:ext cx="4657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5724720"/>
          </a:xfrm>
          <a:prstGeom prst="rect">
            <a:avLst/>
          </a:prstGeom>
          <a:ln w="0">
            <a:noFill/>
          </a:ln>
        </p:spPr>
      </p:pic>
      <p:sp>
        <p:nvSpPr>
          <p:cNvPr id="1054" name="矩形 2"/>
          <p:cNvSpPr/>
          <p:nvPr/>
        </p:nvSpPr>
        <p:spPr>
          <a:xfrm>
            <a:off x="928800" y="15001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928800" y="20001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857160" y="35719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"/>
          <p:cNvSpPr/>
          <p:nvPr/>
        </p:nvSpPr>
        <p:spPr>
          <a:xfrm>
            <a:off x="1000080" y="4643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6"/>
          <p:cNvSpPr/>
          <p:nvPr/>
        </p:nvSpPr>
        <p:spPr>
          <a:xfrm>
            <a:off x="1000080" y="56437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43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52520" y="1100160"/>
            <a:ext cx="82389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48680" cy="578160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3000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3500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00080" y="45007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55720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61437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00120" y="1352520"/>
            <a:ext cx="7943760" cy="41529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143000" y="135720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143000" y="24289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143000" y="3000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143000" y="400068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214280" y="5000760"/>
            <a:ext cx="357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86840" cy="2181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642960" y="3143160"/>
            <a:ext cx="8096400" cy="25812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7358040" y="20001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714240" y="250020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6643800" y="2571840"/>
            <a:ext cx="100008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1357200" y="5214960"/>
            <a:ext cx="2643480" cy="420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61880" y="828720"/>
            <a:ext cx="8220240" cy="52005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3214800" y="1857240"/>
            <a:ext cx="12142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2786040" y="2428920"/>
            <a:ext cx="2071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5500800" y="2928960"/>
            <a:ext cx="13572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5357880" y="4500720"/>
            <a:ext cx="2286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66560" y="1604880"/>
            <a:ext cx="8210880" cy="364824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143000" y="21430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5572080" y="26431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4929120" y="421488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38120" y="890640"/>
            <a:ext cx="8267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3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